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23E-1558-4429-9862-A3ACA85F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553-EC2A-49D1-A500-8AEFD62D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34B-C886-4914-B9B2-64AAA523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1D6E-D9F1-49FD-845F-DA043710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37CE-4C46-4609-A55F-3C2FF2AE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BCEA-9244-41B7-ACBB-4192A021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74E-FAA0-448C-A911-C43668B3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7F3-6BF8-4B42-B61D-4D5F7B51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F6C2-5D87-4BC5-B6C7-8DEE60AD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355-F761-4CC3-B982-6E1DEF57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F7B-E71C-420D-B75F-15A7ACCA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39F-A20D-4B33-909D-85CBDECB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F9B5-6C97-4B46-BE4A-DE23FA7E6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PUMPED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by Com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Science 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listening to Rock n’ Roll increase  your pulse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believe that listening to Rock n’ Roll will increase your pulse r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3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 and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Variables: Sam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Variable: Resting Heart Rate vs. Rock n’ Roll Hear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Variable: See Results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ing Heart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 n’ Roll Hear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          60 BPM                                90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ter     80 BPM                               100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ne      95 BPM                               110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hel     90 BPM                               100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i          90 BPM                               100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n     80 BPM                                85  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9:00:28Z</dcterms:created>
  <dc:creator>USD376</dc:creator>
  <dc:description/>
  <dc:language>en-US</dc:language>
  <cp:lastModifiedBy>USD376</cp:lastModifiedBy>
  <dcterms:modified xsi:type="dcterms:W3CDTF">2010-03-02T16:00:54Z</dcterms:modified>
  <cp:revision>13</cp:revision>
  <dc:subject/>
  <dc:title>Game On!</dc:title>
</cp:coreProperties>
</file>